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F89-85F7-4601-8797-F37F53D1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A6C-E122-4C9B-82DD-D453CD34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BB8-76B9-40E6-9920-8C631B4C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00F-DBB2-446F-81C7-F2C7A61F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ECA-8972-4720-8EA3-7A2994CA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7D6-D728-4C4B-B020-18536273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179-5D09-4A70-BB7B-31C00871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58F-FBC6-4D34-B02D-14B59EE2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913-09A8-41A8-917F-30B1A5B8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F1D-6B13-4B48-99DC-ACDADC32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CEB-AB8E-46DD-A34F-26C73BB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8B8-635C-4BB9-96A9-FC27DF1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404C-02E7-47EA-9B81-B6FA2F69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PHY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studies for the prototype of MEMPHYS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6165720"/>
            <a:ext cx="44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ssandra Tonazzo/A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kos Vassilopoulos/L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076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80" y="141300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muon, # of opticalphotons per PMT, 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997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ity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781360"/>
            <a:ext cx="12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7840" y="2558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9480" y="6432480"/>
            <a:ext cx="36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k muons generated at the detector’s surface with pz / 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81960" cy="4496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8118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propagation effect of OP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of distance between muon’s exit point and detection PMT’s coordinates versus detec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37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984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37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8402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&lt;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5313240"/>
            <a:ext cx="5257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= -1 : later produced OPs are detect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&lt; 0  : relation not 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6720" y="386064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13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89400"/>
            <a:ext cx="184320" cy="1839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3367080"/>
            <a:ext cx="277920" cy="277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0520" y="3284640"/>
            <a:ext cx="574560" cy="5047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360" y="306864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ed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2880" y="2997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9800" y="55166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640" y="299736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9080" y="3213000"/>
            <a:ext cx="574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 simul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67080" y="2276640"/>
            <a:ext cx="4336920" cy="3057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larger/different configurations for MEMPHY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mmer student working on this at A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1656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s of different electrons samples &amp; new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f noise and dig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tector prototype, similar to a MEMPHYS module, is going to provide a solid platform to perform tests on electronic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, as far as detector characteristics allow, could be performed f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x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propa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, underwater cherenkov detector simulation &amp; visualization cod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Jean-Eric Campagne, Guy Barrand et al. (based on GEANT4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2x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 water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different PMTs’ modules simulated at bottom s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2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5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shown 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0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refraction &amp;  blacksheet parameters a la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NO detect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5894280"/>
            <a:ext cx="792360" cy="343080"/>
          </a:xfrm>
          <a:prstGeom prst="rightArrow">
            <a:avLst>
              <a:gd name="adj1" fmla="val 50000"/>
              <a:gd name="adj2" fmla="val 57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ctor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6225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10 MeV, pz / p = -1, vtx :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6225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1 GeV, pz / p = -1, vtx : top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805360"/>
            <a:ext cx="63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ts taken only for optical photons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12840"/>
            <a:ext cx="4156200" cy="318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8520" y="2112840"/>
            <a:ext cx="415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gener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k events samples per particle per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: E = 1 to 25 M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like sources deployed at the detector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s: E = 1 GeV, pz/p = -1 (also pz/p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selected 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ots of the following event (particle) characteristi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PMTs per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opticalphotons per P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calphotons’ arrival times at P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analyses for vertex reconstruction &amp; light propa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5589720"/>
            <a:ext cx="792000" cy="342720"/>
          </a:xfrm>
          <a:prstGeom prst="rightArrow">
            <a:avLst>
              <a:gd name="adj1" fmla="val 50000"/>
              <a:gd name="adj2" fmla="val 57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352520"/>
            <a:ext cx="446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electr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" y="181296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85520" y="3284640"/>
            <a:ext cx="202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778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7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opticalphotons per PM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1200" y="191628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41160" y="31417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796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280" y="134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69880" y="323676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7080" y="44280"/>
            <a:ext cx="32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00" y="765000"/>
            <a:ext cx="3889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MTs per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per PM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arriva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38440"/>
            <a:ext cx="3027240" cy="28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3027240" cy="284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76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reflective a la 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100% absor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0760" y="5799240"/>
            <a:ext cx="19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4724280"/>
          <a:ext cx="3954600" cy="1308240"/>
        </p:xfrm>
        <a:graphic>
          <a:graphicData uri="http://schemas.openxmlformats.org/drawingml/2006/table">
            <a:tbl>
              <a:tblPr/>
              <a:tblGrid>
                <a:gridCol w="954000"/>
                <a:gridCol w="428760"/>
                <a:gridCol w="428760"/>
                <a:gridCol w="428400"/>
                <a:gridCol w="428760"/>
                <a:gridCol w="428760"/>
                <a:gridCol w="428400"/>
                <a:gridCol w="428760"/>
              </a:tblGrid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 (Me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/ MeV /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 (si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21040" y="1744560"/>
            <a:ext cx="3019320" cy="283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98560" y="616572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:  MEMPHYNO’s OPs detected per MeV per electron with blacksheet reflective (numbers calculated from the total # of OPs per Energy run not from the aver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9240" y="3068640"/>
            <a:ext cx="34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000" y="537372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MEM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217332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0 M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vertex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9400" y="1197000"/>
            <a:ext cx="752976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vertex fit based on each  PMT’s timing info: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ere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n / c)  x  D, D = distance between each PMT and fitting point’s coordin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estimator E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find the true vertex of electr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7440" y="35971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9360" y="5305320"/>
            <a:ext cx="36205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 % reconstruction efficiency exa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rue vertex for 10k electrons generated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’s centre with random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72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800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36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64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10:10Z</dcterms:created>
  <dc:creator>vassilo</dc:creator>
  <dc:description/>
  <dc:language>en-US</dc:language>
  <cp:lastModifiedBy>vassilo</cp:lastModifiedBy>
  <dcterms:modified xsi:type="dcterms:W3CDTF">2007-06-10T21:12:52Z</dcterms:modified>
  <cp:revision>85</cp:revision>
  <dc:subject/>
  <dc:title>Diapositive 1</dc:title>
</cp:coreProperties>
</file>